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9.jpeg" ContentType="image/jpeg"/>
  <Override PartName="/ppt/media/image11.jpeg" ContentType="image/jpe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0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04A7-FC3C-4A4D-9084-F722BE0F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0B2-854F-4D4D-9167-E0B6232F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1D6-603C-4DF0-B3F5-EA7F83CF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563-E2E6-414B-8C2F-91898760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F68-DAA7-405B-A436-E4A2D3CF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47E-B09B-47DA-A378-F0311E08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BD01-2A5C-49EE-90BE-6F3D7F95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B52A-6F95-4C78-A3B3-7C99A0A6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9DA5-E1B3-4611-A081-8EEE8713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D2C-DDFA-412F-991A-4442B01B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F3E-4897-42BF-9FB3-CAEEC069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5F2-008E-4ABF-956E-28E9C9CA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E062-9121-4D80-81C5-0E9F2C8FA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143000" y="1219320"/>
            <a:ext cx="71629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roblè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igin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219320" y="152388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fin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e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. un enf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066680" y="1066680"/>
            <a:ext cx="70866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la naissan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princess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fait un gr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762120" y="914400"/>
            <a:ext cx="77724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7 fé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royau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t les 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prince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752480" y="1828800"/>
            <a:ext cx="6248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n #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762120" y="1447920"/>
            <a:ext cx="73911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n #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762120" y="990720"/>
            <a:ext cx="79246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n #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143000" y="990720"/>
            <a:ext cx="693432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n #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219320" y="1066680"/>
            <a:ext cx="67816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n#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838080" y="1143000"/>
            <a:ext cx="74678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don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eil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066680" y="259092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déb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219320" y="990720"/>
            <a:ext cx="68580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’était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vit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914400" y="914400"/>
            <a:ext cx="74674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la fêt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 n’a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les autres fées, si!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219320" y="1143000"/>
            <a:ext cx="69339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elle n’av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s un couvert en or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 croit qu’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…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838080" y="10666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 d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…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tre les d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066680" y="1143000"/>
            <a:ext cx="72392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tion norm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fusea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838080" y="838080"/>
            <a:ext cx="7543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tion de l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nce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e fusea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762120" y="990720"/>
            <a:ext cx="76197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tion du r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tous 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usea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762120" y="838080"/>
            <a:ext cx="761976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fi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6 ans aprè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naissanc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rincess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838080" y="91440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est l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nce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elle vo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fuseau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914400" y="1219320"/>
            <a:ext cx="68580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ut le mon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t qu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ndant 100 a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d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295280" y="1219320"/>
            <a:ext cx="67057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v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éveill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rince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100 a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066680" y="1447920"/>
            <a:ext cx="71629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100 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rince par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qu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1066680" y="1447920"/>
            <a:ext cx="716292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’est-ce 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rincesse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t avant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endormi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990720" y="1143000"/>
            <a:ext cx="73152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la f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t dormir tl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ndant 100 a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676520" y="1523880"/>
            <a:ext cx="65530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la prince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endort, la da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e…..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914400" y="914400"/>
            <a:ext cx="74674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rin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met 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réveill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rince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990720" y="1219320"/>
            <a:ext cx="739116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ri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.   ……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ut de suit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rinces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8" name="Heart 2"/>
          <p:cNvSpPr/>
          <p:nvPr/>
        </p:nvSpPr>
        <p:spPr>
          <a:xfrm>
            <a:off x="7620120" y="5257800"/>
            <a:ext cx="761760" cy="685800"/>
          </a:xfrm>
          <a:custGeom>
            <a:avLst/>
            <a:gdLst>
              <a:gd name="textAreaLeft" fmla="*/ 126720 w 761760"/>
              <a:gd name="textAreaRight" fmla="*/ 635040 w 76176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762000" h="685800">
                <a:moveTo>
                  <a:pt x="381000" y="171450"/>
                </a:moveTo>
                <a:cubicBezTo>
                  <a:pt x="539750" y="-228600"/>
                  <a:pt x="1158875" y="171450"/>
                  <a:pt x="381000" y="685800"/>
                </a:cubicBezTo>
                <a:cubicBezTo>
                  <a:pt x="-396875" y="171450"/>
                  <a:pt x="222250" y="-228600"/>
                  <a:pt x="381000" y="17145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914400" y="99072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…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ri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la prince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a 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762120" y="990720"/>
            <a:ext cx="77724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le pri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rive dans la forêt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arbres 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990720" y="1219320"/>
            <a:ext cx="7010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eille f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2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143000" y="1066680"/>
            <a:ext cx="70102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éro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219320" y="1143000"/>
            <a:ext cx="70102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r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066680" y="914400"/>
            <a:ext cx="73915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1066680" y="990720"/>
            <a:ext cx="71629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152280" y="38088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uméro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qu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ù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914400" y="1371600"/>
            <a:ext cx="723888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bien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rai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ficiell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914400" y="1066680"/>
            <a:ext cx="746748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bi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enfants o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roi et la rein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23880" y="1828800"/>
            <a:ext cx="60199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usea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990720" y="1143000"/>
            <a:ext cx="73152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bien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verts en 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 avait-i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762120" y="1066680"/>
            <a:ext cx="77724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 â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ait la prince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est percé la mai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762120" y="990720"/>
            <a:ext cx="7848360" cy="45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nd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bien d’anné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rmait le royaum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609480" y="1143000"/>
            <a:ext cx="8001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menac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143000" y="1143000"/>
            <a:ext cx="72388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invi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a grande fê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le baptêm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066680" y="1143000"/>
            <a:ext cx="7162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réveill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rincess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066680" y="838080"/>
            <a:ext cx="746784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dit au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nce qui habit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e palai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838080" y="838080"/>
            <a:ext cx="754380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l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6 ans aprè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roi l’a interdi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762120" y="106668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bi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roi et la rein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90720" y="2590920"/>
            <a:ext cx="6858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nda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00 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685800" y="838080"/>
            <a:ext cx="80010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-ce qu’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ie le pri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la princess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990720" y="990720"/>
            <a:ext cx="746748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tait la grande fê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le baptêm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838080" y="1066680"/>
            <a:ext cx="76201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cac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fée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ut par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derniè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838080" y="1066680"/>
            <a:ext cx="76201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le l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nne dam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838080" y="1066680"/>
            <a:ext cx="7391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marié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838080" y="1371600"/>
            <a:ext cx="76964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interdit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914400" y="99072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û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838080" y="91440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il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dit de fi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219320" y="1600200"/>
            <a:ext cx="70102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souvient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rri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tâpisser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219320" y="1143000"/>
            <a:ext cx="69339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f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’eau tomb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 y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371600" y="1295280"/>
            <a:ext cx="64771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cou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pas volontairement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914400" y="914400"/>
            <a:ext cx="73915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jeune f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ut parler l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rnière pour….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mal de la viei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066680" y="1066680"/>
            <a:ext cx="72392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lan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c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grand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905120" y="2286000"/>
            <a:ext cx="5257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wi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4" name="Picture 4" descr="C:\Users\Phyllis\AppData\Local\Microsoft\Windows\Temporary Internet Files\Content.IE5\X4LDVMWH\MC900412796[1].wmf"/>
          <p:cNvPicPr/>
          <p:nvPr/>
        </p:nvPicPr>
        <p:blipFill>
          <a:blip r:embed="rId1"/>
          <a:stretch/>
        </p:blipFill>
        <p:spPr>
          <a:xfrm>
            <a:off x="1981080" y="990720"/>
            <a:ext cx="5410440" cy="53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lee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1066680" y="1295280"/>
            <a:ext cx="6172200" cy="4876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C:\Users\Phyllis\AppData\Local\Microsoft\Windows\Temporary Internet Files\Content.IE5\81EWQ513\MC900412426[1].wmf"/>
          <p:cNvPicPr/>
          <p:nvPr/>
        </p:nvPicPr>
        <p:blipFill>
          <a:blip r:embed="rId1"/>
          <a:stretch/>
        </p:blipFill>
        <p:spPr>
          <a:xfrm>
            <a:off x="2666880" y="1600200"/>
            <a:ext cx="30052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1523880" y="1752480"/>
            <a:ext cx="57150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9" name="Picture 4" descr="img422"/>
          <p:cNvPicPr/>
          <p:nvPr/>
        </p:nvPicPr>
        <p:blipFill>
          <a:blip r:embed="rId1"/>
          <a:stretch/>
        </p:blipFill>
        <p:spPr>
          <a:xfrm>
            <a:off x="2057400" y="914400"/>
            <a:ext cx="5486400" cy="5440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rossignol.jpg"/>
          <p:cNvPicPr/>
          <p:nvPr/>
        </p:nvPicPr>
        <p:blipFill>
          <a:blip r:embed="rId2"/>
          <a:stretch/>
        </p:blipFill>
        <p:spPr>
          <a:xfrm>
            <a:off x="2286000" y="11430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1295280" y="1828800"/>
            <a:ext cx="63248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2" name="Picture 3" descr="img424"/>
          <p:cNvPicPr/>
          <p:nvPr/>
        </p:nvPicPr>
        <p:blipFill>
          <a:blip r:embed="rId1"/>
          <a:stretch/>
        </p:blipFill>
        <p:spPr>
          <a:xfrm>
            <a:off x="1676520" y="990720"/>
            <a:ext cx="5486400" cy="54370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4"/>
          <p:cNvSpPr/>
          <p:nvPr/>
        </p:nvSpPr>
        <p:spPr>
          <a:xfrm>
            <a:off x="762120" y="990720"/>
            <a:ext cx="7772400" cy="5410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3" descr="couvert.png"/>
          <p:cNvPicPr/>
          <p:nvPr/>
        </p:nvPicPr>
        <p:blipFill>
          <a:blip r:embed="rId2"/>
          <a:stretch/>
        </p:blipFill>
        <p:spPr>
          <a:xfrm>
            <a:off x="762120" y="1600200"/>
            <a:ext cx="7619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1828800" y="175248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go horse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ck rid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1523880" y="770040"/>
            <a:ext cx="5639040" cy="54864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"/>
          <p:cNvSpPr/>
          <p:nvPr/>
        </p:nvSpPr>
        <p:spPr>
          <a:xfrm>
            <a:off x="1295280" y="762120"/>
            <a:ext cx="5943600" cy="5486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4" descr="C:\Users\Phyllis\AppData\Local\Microsoft\Windows\Temporary Internet Files\Content.IE5\X4LDVMWH\MC900412612[1].wmf"/>
          <p:cNvPicPr/>
          <p:nvPr/>
        </p:nvPicPr>
        <p:blipFill>
          <a:blip r:embed="rId2"/>
          <a:stretch/>
        </p:blipFill>
        <p:spPr>
          <a:xfrm>
            <a:off x="2286000" y="950760"/>
            <a:ext cx="47242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0" name="WordArt 3"/>
          <p:cNvSpPr txBox="1"/>
          <p:nvPr/>
        </p:nvSpPr>
        <p:spPr>
          <a:xfrm>
            <a:off x="1295280" y="3962520"/>
            <a:ext cx="6477120" cy="21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Je suis fatigué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ébu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on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ieil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useau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00 an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7724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ormir: el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’endormir: el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u passé composé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lle a dorm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lle s’est endorm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143000" y="1371600"/>
            <a:ext cx="71629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ét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fo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… et une…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4-03-29T13:35:26Z</dcterms:modified>
  <cp:revision>80</cp:revision>
  <dc:subject/>
  <dc:title>No Slide Title</dc:title>
</cp:coreProperties>
</file>